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7F9-E1A8-4D41-8A70-EC56BB23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994-0E86-4E1A-8AAF-1AEE616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7ED-4138-452A-AE29-5967323F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FBE-77B8-4E40-A9ED-1A49DC91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7E85F-A90E-4F55-A6B0-0CE07D42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D7F37-51FE-44F8-9263-C2732711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BA925-645C-48F8-A8AB-59FE1AA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344E-5A11-4690-ADEE-8D1E880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AB4CE-A729-458F-B76B-EB939D93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45FD4-025B-4368-B55C-522BCA1D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B61A5-D90F-4473-8D9C-54B119E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BF6-7894-4CB7-83BC-A6987C71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C2C36-0F7B-430A-B163-50C00B7B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83A8C-EF69-4AA7-A359-7846AF52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5C404-1CA5-4407-BF1A-0680541C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291BA-8384-49AE-BBC5-51BC1FD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70A7D-E994-43E8-BEE0-FE981328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B71-B578-454D-A37F-0EB673E9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C01-48F1-4EA2-A6AB-E0DC3B7F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35A-576B-4F39-BF8C-E3EFD2C9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53C-32E2-45A0-BD8C-324807D5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350-923D-49A1-99BF-D104295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318-BAEA-4999-8631-DABF029F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C80-DA08-4D58-ACB4-4EB8864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A2A2-D86E-441F-BB53-5615E45705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67A-0FA1-4378-8291-EB1E081CD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Day 1 MSA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identify and describe the parts of a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8610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um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2536920"/>
            <a:ext cx="23184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11137" y="7094"/>
                </a:moveTo>
                <a:cubicBezTo>
                  <a:pt x="11259" y="7102"/>
                  <a:pt x="11341" y="7124"/>
                  <a:pt x="11460" y="7094"/>
                </a:cubicBezTo>
                <a:cubicBezTo>
                  <a:pt x="11575" y="7094"/>
                  <a:pt x="11097" y="7094"/>
                  <a:pt x="11212" y="7094"/>
                </a:cubicBezTo>
                <a:cubicBezTo>
                  <a:pt x="11253" y="7094"/>
                  <a:pt x="11295" y="7094"/>
                  <a:pt x="11336" y="7094"/>
                </a:cubicBezTo>
                <a:cubicBezTo>
                  <a:pt x="11562" y="7094"/>
                  <a:pt x="11709" y="7095"/>
                  <a:pt x="11385" y="7119"/>
                </a:cubicBezTo>
                <a:cubicBezTo>
                  <a:pt x="11127" y="7138"/>
                  <a:pt x="11666" y="7086"/>
                  <a:pt x="11733" y="7069"/>
                </a:cubicBezTo>
                <a:cubicBezTo>
                  <a:pt x="11852" y="7039"/>
                  <a:pt x="11604" y="7091"/>
                  <a:pt x="11485" y="7119"/>
                </a:cubicBezTo>
                <a:cubicBezTo>
                  <a:pt x="11460" y="7127"/>
                  <a:pt x="11435" y="7136"/>
                  <a:pt x="11410" y="71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1800" y="392904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5949" y="11013"/>
                </a:moveTo>
                <a:cubicBezTo>
                  <a:pt x="15966" y="10988"/>
                  <a:pt x="15982" y="10964"/>
                  <a:pt x="15999" y="10939"/>
                </a:cubicBezTo>
                <a:cubicBezTo>
                  <a:pt x="16024" y="11122"/>
                  <a:pt x="15999" y="11338"/>
                  <a:pt x="15999" y="11534"/>
                </a:cubicBezTo>
              </a:path>
              <a:path w="1167" h="621">
                <a:moveTo>
                  <a:pt x="16421" y="10988"/>
                </a:moveTo>
                <a:cubicBezTo>
                  <a:pt x="16421" y="11130"/>
                  <a:pt x="16400" y="11268"/>
                  <a:pt x="16396" y="11410"/>
                </a:cubicBezTo>
                <a:cubicBezTo>
                  <a:pt x="16396" y="11435"/>
                  <a:pt x="16396" y="11460"/>
                  <a:pt x="16396" y="11485"/>
                </a:cubicBezTo>
              </a:path>
              <a:path w="1167" h="621">
                <a:moveTo>
                  <a:pt x="15503" y="10964"/>
                </a:moveTo>
                <a:cubicBezTo>
                  <a:pt x="15730" y="10910"/>
                  <a:pt x="15938" y="10914"/>
                  <a:pt x="16173" y="10914"/>
                </a:cubicBezTo>
                <a:cubicBezTo>
                  <a:pt x="16338" y="10914"/>
                  <a:pt x="16504" y="10914"/>
                  <a:pt x="16669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1800" y="4902120"/>
            <a:ext cx="446040" cy="125640"/>
          </a:xfrm>
          <a:custGeom>
            <a:avLst/>
            <a:gdLst/>
            <a:ahLst/>
            <a:rect l="l" t="t" r="r" b="b"/>
            <a:pathLst>
              <a:path w="1241" h="348">
                <a:moveTo>
                  <a:pt x="12254" y="13816"/>
                </a:moveTo>
                <a:cubicBezTo>
                  <a:pt x="12289" y="13771"/>
                  <a:pt x="12321" y="13713"/>
                  <a:pt x="12378" y="13692"/>
                </a:cubicBezTo>
                <a:cubicBezTo>
                  <a:pt x="12456" y="13664"/>
                  <a:pt x="12556" y="13670"/>
                  <a:pt x="12626" y="13643"/>
                </a:cubicBezTo>
                <a:cubicBezTo>
                  <a:pt x="12676" y="13623"/>
                  <a:pt x="12760" y="13600"/>
                  <a:pt x="12824" y="13618"/>
                </a:cubicBezTo>
                <a:cubicBezTo>
                  <a:pt x="12893" y="13637"/>
                  <a:pt x="12953" y="13661"/>
                  <a:pt x="13022" y="13667"/>
                </a:cubicBezTo>
                <a:cubicBezTo>
                  <a:pt x="13098" y="13673"/>
                  <a:pt x="13159" y="13718"/>
                  <a:pt x="13221" y="13742"/>
                </a:cubicBezTo>
                <a:cubicBezTo>
                  <a:pt x="13272" y="13762"/>
                  <a:pt x="13331" y="13804"/>
                  <a:pt x="13370" y="13841"/>
                </a:cubicBezTo>
                <a:cubicBezTo>
                  <a:pt x="13422" y="13891"/>
                  <a:pt x="13438" y="13925"/>
                  <a:pt x="13494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 the circumference of the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820800" y="6089760"/>
            <a:ext cx="1009440" cy="554040"/>
          </a:xfrm>
          <a:custGeom>
            <a:avLst/>
            <a:gdLst/>
            <a:ahLst/>
            <a:rect l="l" t="t" r="r" b="b"/>
            <a:pathLst>
              <a:path w="2804" h="1539">
                <a:moveTo>
                  <a:pt x="5085" y="16917"/>
                </a:moveTo>
                <a:cubicBezTo>
                  <a:pt x="4995" y="16923"/>
                  <a:pt x="4901" y="16927"/>
                  <a:pt x="4812" y="16942"/>
                </a:cubicBezTo>
                <a:cubicBezTo>
                  <a:pt x="4740" y="16954"/>
                  <a:pt x="4723" y="16961"/>
                  <a:pt x="4663" y="17016"/>
                </a:cubicBezTo>
                <a:cubicBezTo>
                  <a:pt x="4507" y="17159"/>
                  <a:pt x="4335" y="17282"/>
                  <a:pt x="4167" y="17413"/>
                </a:cubicBezTo>
                <a:cubicBezTo>
                  <a:pt x="3908" y="17615"/>
                  <a:pt x="3641" y="17813"/>
                  <a:pt x="3398" y="18033"/>
                </a:cubicBezTo>
                <a:cubicBezTo>
                  <a:pt x="3316" y="18108"/>
                  <a:pt x="3230" y="18188"/>
                  <a:pt x="3125" y="18207"/>
                </a:cubicBezTo>
                <a:cubicBezTo>
                  <a:pt x="3062" y="18218"/>
                  <a:pt x="3015" y="18213"/>
                  <a:pt x="2952" y="18231"/>
                </a:cubicBezTo>
                <a:cubicBezTo>
                  <a:pt x="2908" y="18244"/>
                  <a:pt x="2867" y="18265"/>
                  <a:pt x="2828" y="18281"/>
                </a:cubicBezTo>
                <a:cubicBezTo>
                  <a:pt x="2793" y="18295"/>
                  <a:pt x="2736" y="18291"/>
                  <a:pt x="2704" y="18306"/>
                </a:cubicBezTo>
                <a:cubicBezTo>
                  <a:pt x="2666" y="18323"/>
                  <a:pt x="2647" y="18349"/>
                  <a:pt x="2604" y="18355"/>
                </a:cubicBezTo>
                <a:cubicBezTo>
                  <a:pt x="2563" y="18361"/>
                  <a:pt x="2546" y="18375"/>
                  <a:pt x="2505" y="18380"/>
                </a:cubicBezTo>
                <a:cubicBezTo>
                  <a:pt x="2458" y="18386"/>
                  <a:pt x="2446" y="18391"/>
                  <a:pt x="2406" y="18405"/>
                </a:cubicBezTo>
                <a:cubicBezTo>
                  <a:pt x="2378" y="18415"/>
                  <a:pt x="2338" y="18453"/>
                  <a:pt x="2332" y="18455"/>
                </a:cubicBezTo>
                <a:cubicBezTo>
                  <a:pt x="2307" y="18455"/>
                  <a:pt x="2299" y="18455"/>
                  <a:pt x="2282" y="184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us, Diameter, Circumference Work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2-06T20:26:46Z</dcterms:modified>
  <cp:revision>26</cp:revision>
  <dc:subject/>
  <dc:title>Unit 6: Geometry</dc:title>
</cp:coreProperties>
</file>